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AAF-0061-427D-A635-7D9FC840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C33-081E-43D8-B79E-20A9BB9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F55-C0A0-4B36-A293-2361066B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12D-4FDB-47B0-863C-49D9F7EA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376-30E7-4A4A-BED2-62D2DFC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6BB-F4B7-4B38-B757-08BD5B17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4FA-32E4-4BCA-9AC3-08973C4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DF3-CC86-4547-AA39-5ADD088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C86-8089-4109-BB13-C955B45F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234-15D8-4D9B-BA7F-181EF543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A05-382B-4116-AC92-8A15BE0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5B7-59D5-4D41-87F5-A061524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DBE-D7E6-4BD7-8269-BD76C4124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L1y8QceVBOw" TargetMode="External"/><Relationship Id="rId3" Type="http://schemas.openxmlformats.org/officeDocument/2006/relationships/hyperlink" Target="http://www.youtube.com/watch?v=L1y8QceVBOw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.scholastic.com/activities/bhistory/underground_railroad/escape.htm" TargetMode="External"/><Relationship Id="rId3" Type="http://schemas.openxmlformats.org/officeDocument/2006/relationships/hyperlink" Target="http://www.nationalgeographic.com/railroad/j1.html" TargetMode="External"/><Relationship Id="rId4" Type="http://schemas.openxmlformats.org/officeDocument/2006/relationships/hyperlink" Target="http://www.nationalgeographic.com/railroad/j1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ad us to Freed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ollow the Drinking Gourd - 2008 PMEA District 9 Chorus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ou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 I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escribe the life of Harriet Tubman and her contributions to the underground railroa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562720" y="1447920"/>
            <a:ext cx="26668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rtual journey Scholastic_x000b_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rtual journey National Geographic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752480"/>
            <a:ext cx="6705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t quilt on Harriet Tub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t least three facts from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5146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escribe the life of Harriet Tubman and her contributions to the underground railroa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5:32:42Z</dcterms:created>
  <dc:creator>Larry</dc:creator>
  <dc:description/>
  <dc:language>en-US</dc:language>
  <cp:lastModifiedBy>Larry</cp:lastModifiedBy>
  <dcterms:modified xsi:type="dcterms:W3CDTF">2012-01-29T22:03:55Z</dcterms:modified>
  <cp:revision>2</cp:revision>
  <dc:subject/>
  <dc:title>Lead us to Freedom</dc:title>
</cp:coreProperties>
</file>